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EB8-9BD7-4E5E-B6E6-D09E5CDB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72F-81B6-476F-A381-75294A1E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24E-25F3-403C-A29E-5A3B56B7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62F-4017-4A86-BC85-1D833FD6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744E-A64D-420D-84CF-3896369C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98D3-488C-4B79-9311-F36B4504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5ABA-F36B-4C5E-A3BF-6430B109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0A40-17AC-4E12-AA51-2B40831A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0E65-CB60-45A4-B813-D71CB29A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F4A0-8E65-4355-9144-F80381F1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8BF6-39D5-4B80-9D1F-E5DF1F6D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D59-486E-44EC-8770-4A7D2EDA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E3B4-9398-4B59-B3E5-A3EDF52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B316-80DC-4AA8-B5D5-6636E727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2298-0497-4379-8805-4569A62D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A12E-DF9A-45E9-A86F-6AD44E30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10D1-87B0-411A-9E3E-E796B1CB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D42CC-96BD-4B81-BE91-7230AB24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358EC-9D1D-44B9-80C9-1F7E9BC5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85DCBA-C7C8-44BD-A4C2-105DFF1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8B3789-6879-4530-ACF2-7543A4DC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EBE25-2848-48EC-A86E-E7EB5BB3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01D-6313-46F1-A678-F6783C4F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53F9A-33EC-4759-A337-5E70C8E4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EF92BB-3ED2-460C-B4A1-1704F8EF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C22AB9-EBB2-449B-BA7D-F80E324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B819AB-7D5B-4B08-8D96-DA04300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81812-8009-4E6B-A6E6-B6CFCC3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A511D-C9BD-4D8D-B823-E62228A7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B73F4-81EA-4826-B3E4-4691A3BE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A3D-B841-4C64-837A-077B7277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3A9-90DD-409C-B399-09B40285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A51-7F5F-40FB-B142-B53B2C3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03E-986A-44A9-99AA-F282730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F94-DCB0-415D-B937-AA53A380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75D-B5B3-4F9C-A760-CB0D2E37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2E3A-F319-47C6-B18E-982272DB682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0D14-253B-47C9-AC2E-E2FB9FBF83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817C-35F5-4BD5-AB20-B2FC0B515F4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4BD0-C179-46C7-91B1-7A75F6DF18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1706-3FEC-4829-AC0D-9E1CD1ABDA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3B98-2F24-4AE0-BD78-3326635C0BC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 ОБЛИЦИ ЗА АПЛИКАЦИЈУ У ОТВОРЕ Т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751A-BE65-4A1D-BFCC-3CD546CC51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1258920" y="1125360"/>
            <a:ext cx="6697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067280" y="5084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 су чврсти, једнодозни препара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, величина и конзистенција супозиторија морају да буду погодни за ректалну примен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 које су суспендоване или растворене у једноставној или сложеној подло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 може да буде растворна у води или да може да се меша са водом или се топи на телесној температур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ћне материје: адсорбенси, површински активне материје, лубриканси, конзерванси и дозвољене боје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1C85-1B11-40C1-A56C-553C90D14C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402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i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маса супозиторије 2-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;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ецу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ibu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маса 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жина 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прописи (Холандске националне формуле) декларишу уместо масе запремину готове супозиторије – 2 до 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сање запремине може бити у неким случајевима практичније, јер је калуп сталне запремине, а и системи за дозирање код машинске израде могу се једноставније подесити на одговарајући волумен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C175-A529-49D0-A6A6-0C8126130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Резултат слика за supozitorije"/>
          <p:cNvPicPr/>
          <p:nvPr/>
        </p:nvPicPr>
        <p:blipFill>
          <a:blip r:embed="rId1"/>
          <a:stretch/>
        </p:blipFill>
        <p:spPr>
          <a:xfrm>
            <a:off x="5819760" y="1844640"/>
            <a:ext cx="3324240" cy="1914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C:\Users\Ana Radovanovic\Downloads\download.jpg"/>
          <p:cNvPicPr/>
          <p:nvPr/>
        </p:nvPicPr>
        <p:blipFill>
          <a:blip r:embed="rId2"/>
          <a:stretch/>
        </p:blipFill>
        <p:spPr>
          <a:xfrm>
            <a:off x="5796000" y="4292640"/>
            <a:ext cx="220032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капсу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256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дозирани обли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 меким желатинским капсулама, осим што могу да буду превучене слојем лубриканса, ради лакше апликације. Глатке су површине и издуженог обл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6424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47B0-0041-43D6-89DB-BE05730BEB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0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суспензије за ректалну примену /енемата, клизме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231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чни лековити препарати намењени за ректалну апликаци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изањ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ог или локалног еф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- једнодозни препарати који садрже једну или више лековитих супстанци растворених у води, глицеролу или макрого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смеју да имају талог, али под условом да се он лако редиспергује, а суспензија остане довољно дуго стабилна да се може апликов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: за подешавање вискозитет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, стабилизатори и солубилизат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564240" y="6273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89DF-3C19-4304-879B-CAE662B730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1122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таблете за израду раствора и суспензија за ректалну приме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270792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нодозни препарати који се растварају или диспергују у води непосредно пре аплик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које олакшавају растварање или дисперговање, или спречавају слепљивање честица у суспензиј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6424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EACB-E346-4C43-88D9-2FB759CEE2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ректалну примену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3069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, кремови и гелови. Могу да буду упаковани у амбалажу са погодним апликатором за истискивање једне доз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64240" y="645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7177-2E28-46CB-8244-65865D811C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е за ректалну употреб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2276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одговарати захтевима за Лековите пе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се састоје од велике запремине гаса диспергованог у теч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једну или више лековитих супстанци, сурфактант који обезбеђује стварање пене и друге ексципијен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ACCD-7511-48F9-B3C1-0DEFE8BD3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пони за ректалну употреб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95280" y="229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, једнодозни препарати, намењени за краткотрајно увлачење у доњи део ректу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деривата целулозе, колагена или силикона, који су импрегнирани са једном или више лековитих супстан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D664-6AD2-427B-B6A9-804396AD8D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промаз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и мучнине и повраћања и као седати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нсетро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и мучнине и повраћа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морф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оидни аналгет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там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и мигре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ометац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налгез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468360" y="1052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лекова формулисаних у облике за ректалну прим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EF5A-0631-4611-BEB3-94E9F6BC045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каи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ethylis aminobenzoas) - локални анестети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ику ректалних супозиторија користи се за локалну, симптоматску терапију аналних фисура и болних хемороидалних чворо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љава се у концентрацији од 1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ini chloridu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оидни аналгет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терапији јаких до веома јаких болова (постоперативни болови, политрауме, болова код терминалних стадијума карцином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 у групу параграфика и лекова са веома јаким дејством, па му је прописивање строго контолисан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а дозвољена дневна доза је 0,1 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ику супозиторија је погодан за примену код пацијената код којих се не може применити орално или парентералн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A418-B169-49F1-B50A-015EA1CB43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 ОБЛИЦИ ЗА АПЛИКАЦИЈУ У ОТВОРЕ ТЕЛ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ректална, вагинална, уретрална и друге примене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и који се апликују у поједине отворе те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користе се 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зање локалног или системског деловања лековите супста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 облици за примен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м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тралним 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ђе у друге отворе тела (ушни канал, канал зуба, носну шупљину, отворе ра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70F8-BFAC-4DB8-9D2C-4447EC8CBE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лихидроксилни алкохол) - лаксати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 у облику супозиторија погодан је лаксатив за старије особе, децу и трудни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Д за децу је 1,0 g, а за одрасле 3,0 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E35B-B077-4C40-8464-E463C51C9A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699920"/>
            <a:ext cx="8280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, получврсти или чврсти препарати, намењени за апликацију на слузницу вагине са циљем да се произведе локални ефекат. Садрже једну или више лековитих супстанци</a:t>
            </a:r>
            <a:r>
              <a:rPr b="0" lang="pt-B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лека се изражава као средња концетрација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о се најчешће примењују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стри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си, дезинфицијенси, антифлогистици, антифунгициди, антибиотици и контрацептивна средств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е вагиналних препарата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ене вагиторије (песари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таблет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капсул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пен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 тампон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564240" y="6018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1780-9CC3-4436-B6AF-A866F33EB0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95280" y="1628280"/>
            <a:ext cx="46864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 се називају јо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u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itor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u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u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I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V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 су дозирани препарати лекова намењени за вагиналну апликацију, са циљем да се постигне локално деловањ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лоптастог или коничног обл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2A7-479E-41E5-8368-3C6C6AE5C4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ној температури су чвр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 се на телесној температури топе и раставарају у вагиналном секрет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, у основној маси вагиторија, могу бит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оре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еднолик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спендова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улгова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другачије масе су 3-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684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лекова формулисаних у облику вагит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ноксинол-9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ацепц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хомоноц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апија инфекциј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homonas vaginalis-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фунгиц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апија инфекциј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-ом albic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ц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 (дериват естрогена) 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о се примењује у облику вагиторија, у терапији менопаузалног атрофичног вулвовагинитиса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53AC-1FCC-41D6-974F-5E91921307B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ЗА ПРИМЕНУ У ОСТАЛЕ ОТВОРЕ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213336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ТАМП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тампони су једнодозни чврсти препарати намењени за краткотрајно увлачење у телесне шупљине. Састоје се од погодног материјала као што је целулоза, колаген или силикон који су импрегнирани са једном или више лековитих супстанци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РИГ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ригацију су стерилни, водени раствори велике запремине који се користе за испирање (иригацију) телесних шупљина, рана или других површина (нпр. у току хируршких операција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и спреј препарат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уш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пон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9046-B22A-4814-BA81-28947C5FB0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нос и течни спреј препарат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но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 (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yli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i uret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i nas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i o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i d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i cust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i laminari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F06-D3A7-4775-BFDB-AEF2953D2B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и облици за апликацију у отворе тела су супозиторије, вагиторије и штапићи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ирем смислу сви се могу означити као супозиторија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zitorij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zitor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000" y="2708280"/>
            <a:ext cx="83516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раде, помоћне материје, фармацеутско-технолошки проблеми, стабилност и испитивања исти су или слични за супозиторије, вагиторије и бациле, па ће се дати јединствено и користити израз супозиторије у ширем смисл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1C8E-B76B-4047-A8AD-5DA59441BE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ИЗРАДУ СУПОЗИТО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6999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ција за подлоге за супозиторије обично обухвата следеће податк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 и хемијски састав подлог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 и очвршћавањ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л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нификацио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ск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ксидни број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апуњене матер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чистоћ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 рефракц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а релативна молекулска ма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шка својст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B757-D997-4CD7-A6C6-B7A4FFFD8D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абрана подлога треба да омогућ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поступак израде, стабилност препарата и максималну биолошку расположивост лековите супстанц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1280" y="2062080"/>
            <a:ext cx="8013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ине идеалне подлоге за супозиторије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топи на телесној (ректалној) температури или раствара у телесној (ректалној, вагиналној) течности по апликацији препа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нетоксична и да не иритира слузокож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компатибилна са већим бројем лековитих супстанца и помоћних материј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ма већи број полиморфних обл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лако обликуј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може лако да се ослободи из калупа без употребе лубрикан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ма одређени водени број тј. да може ако је потребно да прими во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стабилна у току чувањ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примењива за различите поступке израд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безбеди жељену биолошку расположивост инкорпориране лековите супстан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6491160" y="6018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7880-EE07-4E9C-B039-9EB80CC981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и захтеви за идеалне липосолубилне подлог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ски број не сме бити већи од 0,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нификациони број треба да се креће од 200-2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ни број треба да буде мањи од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између температуре топљења и очвршћавања треба да буде м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осолубил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логе- топе се на телесној температур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солубилн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- растварају се у ректалној/вагиналној теч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але подло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A287-924C-4070-814E-EFDC089FF0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094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ЗА РЕКТАЛНУ АПЛИКА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7730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 су намењени за ректалну апликацију са циљем да се постигне системско или локално деловање, или у дијагностичке свр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и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 за ректалну примену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суспензије за ректалну примену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таблете из којих се израђују раствори и суспензије за ректалну примену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(масти, гелови)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пене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тампони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6564240" y="6975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7842-B626-4C71-A0C0-3B68DC1F51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СОЛУБИЛНЕ ПОДЛО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ao oleum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solidus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V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и недостаци какаовог уља с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орфиза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 у изради излива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ма течне компонен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 контракција волумена у току очвршћавања. Због малог волумена контракције током очвршћавања може се десити да се супозиторије лепе за калуп, па је неопходн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мазати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у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н између тачке топљења и тачке очвршћавања је велики - око 12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што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еповољно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6"/>
          <p:cNvSpPr/>
          <p:nvPr/>
        </p:nvSpPr>
        <p:spPr>
          <a:xfrm>
            <a:off x="7956720" y="64087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CE5E-D08C-4E38-8025-2340E566A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solidus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 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1483920"/>
            <a:ext cx="4427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solidus, </a:t>
            </a:r>
            <a:r>
              <a:rPr b="1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fats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мисинтетски глицериди,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neutralis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а маст се састоји од смеше триглицерида, диглицерида и моноглицерида, који могу бити добијени естерификацијом масних киселина природног порекла глицеролом или трансестерификацијом природне масноћ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тип чврсте масти је окарактерисан температуром топљења, хидроксилним бројем и сапонификационим бројем. Не садржи адитив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0" y="1700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  C –  R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  C – R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  C – R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формула чврстих масти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eps solid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је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R1/2/3 -  OH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или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 - C - ( CH2 )n - CH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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 8-16 (1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и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1,  R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 не могу бити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6"/>
          <p:cNvSpPr/>
          <p:nvPr/>
        </p:nvSpPr>
        <p:spPr>
          <a:xfrm>
            <a:off x="7226280" y="6400800"/>
            <a:ext cx="19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FA1D-41A4-444B-B43B-91FD66502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epso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логе</a:t>
            </a:r>
            <a:br>
              <a:rPr sz="2200"/>
            </a:br>
            <a:br>
              <a:rPr sz="22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ових подлога је извршена према њиховим хемијским и физичким особинама.</a:t>
            </a:r>
            <a:br>
              <a:rPr sz="2000"/>
            </a:br>
            <a:br>
              <a:rPr sz="18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четири серије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epsol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, W, S, i E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484360" y="3213000"/>
            <a:ext cx="5616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</a:t>
            </a:r>
            <a:r>
              <a:rPr b="1" lang="sr-Latn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 – hard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врд, чвр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к садржај моно и диглицери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очвршћавања кратк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</a:t>
            </a:r>
            <a:r>
              <a:rPr b="1" lang="sr-Latn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– weich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 садржај моно и диглицери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е време очвршћавањ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С – специјалне врс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П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е за израду вагитор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Е – екст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ка топљења изнад телесне температу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пстанце које снижавају тачку топљењ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46"/>
          <p:cNvSpPr/>
          <p:nvPr/>
        </p:nvSpPr>
        <p:spPr>
          <a:xfrm>
            <a:off x="6635880" y="6378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66D7-4D07-41B6-982F-3BA4A996F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187280" y="1052640"/>
          <a:ext cx="6840720" cy="6321240"/>
        </p:xfrm>
        <a:graphic>
          <a:graphicData uri="http://schemas.openxmlformats.org/drawingml/2006/table">
            <a:tbl>
              <a:tblPr/>
              <a:tblGrid>
                <a:gridCol w="966960"/>
                <a:gridCol w="2214720"/>
                <a:gridCol w="1949400"/>
                <a:gridCol w="170964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EP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 ТОПЉ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МЕРАТУРА ОЧВРШЋАВА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ДРОКСИЛНА ВРЕДНО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2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-3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-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0-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-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-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-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-3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-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-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-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-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-3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-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-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-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184-440E-43EB-A904-5BD3BE4352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е подло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ју се на месту при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 је мала количина телесних течности за растварање (могућ лаксативни ефек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е полиетиленглик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латинска под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 желатинска подлога се не користи за супозитор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адрже воду подложне су развоју микроорганиз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1C7A-582E-4422-89DA-68C78C0D6E30}" type="slidenum">
              <a:rPr b="0" lang="en-US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КРОГОЛИ</a:t>
            </a:r>
            <a:br>
              <a:rPr sz="2200"/>
            </a:b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ГЛИКОЛНЕ ПОДЛОГЕ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PEG )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n 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3284640"/>
          <a:ext cx="8496000" cy="1576440"/>
        </p:xfrm>
        <a:graphic>
          <a:graphicData uri="http://schemas.openxmlformats.org/drawingml/2006/table">
            <a:tbl>
              <a:tblPr/>
              <a:tblGrid>
                <a:gridCol w="904680"/>
                <a:gridCol w="584280"/>
                <a:gridCol w="581040"/>
                <a:gridCol w="581040"/>
                <a:gridCol w="581040"/>
                <a:gridCol w="584280"/>
                <a:gridCol w="581040"/>
                <a:gridCol w="580680"/>
                <a:gridCol w="584280"/>
                <a:gridCol w="581040"/>
                <a:gridCol w="581040"/>
                <a:gridCol w="581040"/>
                <a:gridCol w="584280"/>
                <a:gridCol w="60624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-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-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-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-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-1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-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-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-2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-3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-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0-6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-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-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Rectangle 218"/>
          <p:cNvSpPr/>
          <p:nvPr/>
        </p:nvSpPr>
        <p:spPr>
          <a:xfrm>
            <a:off x="6564240" y="632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FFFF-7EE7-446F-B6D6-6090FD073F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23648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 полимери ПЕГ имају различите физичке карактеристик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ПОДЛОГА СА ПОЛИЕТИЛЕНГЛИКОЛИ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5280" y="163944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000 96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0 4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6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5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%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алне подлог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6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%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5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wее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    1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2411280" y="5799240"/>
            <a:ext cx="61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одлоге која садржи површински активну материју. Пожељно је да се користи када се жели брже ослобађање лековите супстанц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ито је погодна када се ради о супозиторијама типа суспензија са тешко растворним лековитим супстанца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2268360" y="2060640"/>
            <a:ext cx="6696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 дезинтеграција супозиторија. Треба водити рачуна да подлога има релативно ниску температуру топљења, па захтева чување на хладном мест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2268360" y="3068640"/>
            <a:ext cx="5616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 ове подлоге је нешто већа од претходне, па се користи када се жели спорије отпуштање лековите супстанц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F3A4-34B8-4C8B-B837-9802A82FBC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ЛАТИНСКА ПОД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зраде подлог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ина се прелије са прописаном количином хладне воде и бубри око 15 мину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загревање (на воденом купатилу) врши се растварање и загревање желатин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и се додаје глицерол или глицерол са лековитом супстанцом, темпериран на исту температуру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ије додата, лековита супстанца се додаје хомогенизованој мас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 (препарат) се мери и уколико је потребно дода топле воде до прописане мас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изована маса се излива у претходно подмазане калупе</a:t>
            </a:r>
            <a:r>
              <a:rPr b="0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00720" y="1699920"/>
            <a:ext cx="40384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 неких глицерол-желатинских под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9AFB-C01D-4D12-9A4E-A68572DA6F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910040" y="2708280"/>
          <a:ext cx="3622680" cy="259236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97128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ОЛ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8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У ИЗРАДИ СУПОЗИТОРИЈА И ВАГ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4360" y="2072880"/>
            <a:ext cx="7997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за корекцију тачке (температуре) топљења додају се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постигле одговарајуће карактеристике топљења готовог производа у случајевима када инкорпориране супстанце повећавају или снижавају температуру топљењ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супозиторије израђују и чувају у топлијим крајевим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риговање карактеристика одабране подл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ци (парафин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 и деривати масних киселина (стеаринска киселина, етоксилирани парцијални глицериди масних киселина, глицерол моностеара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вине засићених глицери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и алкохоли (цетил алкохо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ови (пчелињи восак, цетацеум, карнауба восак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A9A4-D459-41A9-97C1-A271B96FD5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23640" y="1196640"/>
            <a:ext cx="3887640" cy="5661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за корекцију вискозите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спорава се седиментација и боља је уједначеност садржаја лековите супстанц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минијум моно, ди и тристеа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 моностеа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незију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а кисе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ил алкох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тил алкох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цију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мањење вискозитета користе се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ирано рицинусово у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а лецитин у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1640" y="1196640"/>
            <a:ext cx="4321080" cy="5661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које побољшавају пластичност јер ј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мљење супозиторија чест пробл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ил и миристил алкох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енглик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wе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и 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а кисе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лицериди масних кисе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брикан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за премазивање калупа да би се спречило лепљење супозиторија за зидове калупа, чиме се олакшава в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е супозитори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: минерална уљ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а силиконска уља и алкохоли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1DDF-A6E9-4246-9184-B20778BCC8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6"/>
          <p:cNvSpPr/>
          <p:nvPr/>
        </p:nvSpPr>
        <p:spPr>
          <a:xfrm>
            <a:off x="6567480" y="6434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CF6-38C5-4BD0-8200-1537E2E82D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250920" y="692280"/>
            <a:ext cx="87138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ности ректалне апликације лековите супстанце у односу на о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val 3" descr="Parchment"/>
          <p:cNvPicPr/>
          <p:nvPr/>
        </p:nvPicPr>
        <p:blipFill>
          <a:blip r:embed="rId1"/>
          <a:stretch/>
        </p:blipFill>
        <p:spPr>
          <a:xfrm>
            <a:off x="3029040" y="2687760"/>
            <a:ext cx="3066840" cy="3322440"/>
          </a:xfrm>
          <a:prstGeom prst="rect">
            <a:avLst/>
          </a:prstGeom>
          <a:ln w="0">
            <a:noFill/>
          </a:ln>
        </p:spPr>
      </p:pic>
      <p:sp>
        <p:nvSpPr>
          <p:cNvPr id="139" name="Freeform 4"/>
          <p:cNvSpPr/>
          <p:nvPr/>
        </p:nvSpPr>
        <p:spPr>
          <a:xfrm>
            <a:off x="4280040" y="2705040"/>
            <a:ext cx="420480" cy="33480"/>
          </a:xfrm>
          <a:custGeom>
            <a:avLst/>
            <a:gdLst>
              <a:gd name="textAreaLeft" fmla="*/ 0 w 420480"/>
              <a:gd name="textAreaRight" fmla="*/ 420840 w 420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5253120" y="2886120"/>
            <a:ext cx="242640" cy="168120"/>
          </a:xfrm>
          <a:custGeom>
            <a:avLst/>
            <a:gdLst>
              <a:gd name="textAreaLeft" fmla="*/ 0 w 242640"/>
              <a:gd name="textAreaRight" fmla="*/ 243000 w 2426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5853240" y="347652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6059520" y="4368960"/>
            <a:ext cx="20520" cy="237960"/>
          </a:xfrm>
          <a:custGeom>
            <a:avLst/>
            <a:gdLst>
              <a:gd name="textAreaLeft" fmla="*/ 0 w 20520"/>
              <a:gd name="textAreaRight" fmla="*/ 20880 w 205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>
            <a:off x="5769000" y="5184720"/>
            <a:ext cx="103320" cy="174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5099040" y="5754600"/>
            <a:ext cx="268200" cy="144720"/>
          </a:xfrm>
          <a:custGeom>
            <a:avLst/>
            <a:gdLst>
              <a:gd name="textAreaLeft" fmla="*/ 0 w 268200"/>
              <a:gd name="textAreaRight" fmla="*/ 268200 w 268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4124160" y="592596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3360600" y="5359320"/>
            <a:ext cx="219240" cy="246240"/>
          </a:xfrm>
          <a:custGeom>
            <a:avLst/>
            <a:gdLst>
              <a:gd name="textAreaLeft" fmla="*/ 0 w 219240"/>
              <a:gd name="textAreaRight" fmla="*/ 219600 w 219240"/>
              <a:gd name="textAreaTop" fmla="*/ 0 h 246240"/>
              <a:gd name="textAreaBottom" fmla="*/ 246240 h 24624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"/>
          <p:cNvSpPr/>
          <p:nvPr/>
        </p:nvSpPr>
        <p:spPr>
          <a:xfrm>
            <a:off x="3062160" y="4541760"/>
            <a:ext cx="55800" cy="290520"/>
          </a:xfrm>
          <a:custGeom>
            <a:avLst/>
            <a:gdLst>
              <a:gd name="textAreaLeft" fmla="*/ 0 w 55800"/>
              <a:gd name="textAreaRight" fmla="*/ 56160 w 5580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3"/>
          <p:cNvSpPr/>
          <p:nvPr/>
        </p:nvSpPr>
        <p:spPr>
          <a:xfrm>
            <a:off x="3594240" y="2938320"/>
            <a:ext cx="198360" cy="15588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4"/>
          <p:cNvSpPr/>
          <p:nvPr/>
        </p:nvSpPr>
        <p:spPr>
          <a:xfrm>
            <a:off x="3110040" y="361800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1536840" y="264636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340240" y="1989000"/>
            <a:ext cx="35528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остоперативних с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250920" y="1781280"/>
            <a:ext cx="35431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не постоји могућност узимања лека оралним путем (гастроинтестинални поремећаји, мучнина, немогућност гутањ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6084720" y="2565360"/>
            <a:ext cx="28576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пацијент без свести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ек није могуће дат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 flipV="1">
            <a:off x="482760" y="2814480"/>
            <a:ext cx="243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6417720" y="3711600"/>
            <a:ext cx="1655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дијатр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324000" y="2997360"/>
            <a:ext cx="2700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жели локално дејство  на слузокожу рект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6502320" y="4272120"/>
            <a:ext cx="24336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велике физичке исцрпље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214200" y="4140360"/>
            <a:ext cx="2038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жели избећи портални крв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 flipH="1">
            <a:off x="8547120" y="4843440"/>
            <a:ext cx="14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339840" y="5194440"/>
            <a:ext cx="259056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лековита супстан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а (могућност деград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суству дигестивних сок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6170760" y="5419800"/>
            <a:ext cx="24145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лековита супстанца иритира слузокожу желу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3811680" y="2459160"/>
            <a:ext cx="306360" cy="27288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078520" y="2446200"/>
            <a:ext cx="269640" cy="32256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5721480" y="3041280"/>
            <a:ext cx="336600" cy="16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 flipV="1">
            <a:off x="6111720" y="3865680"/>
            <a:ext cx="254160" cy="10296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 flipH="1" flipV="1">
            <a:off x="2065320" y="3841560"/>
            <a:ext cx="985680" cy="29844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4"/>
          <p:cNvSpPr/>
          <p:nvPr/>
        </p:nvSpPr>
        <p:spPr>
          <a:xfrm flipH="1">
            <a:off x="2447640" y="5124600"/>
            <a:ext cx="739800" cy="33804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 flipV="1">
            <a:off x="6045120" y="4814640"/>
            <a:ext cx="476280" cy="11412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6"/>
          <p:cNvSpPr/>
          <p:nvPr/>
        </p:nvSpPr>
        <p:spPr>
          <a:xfrm rot="769800">
            <a:off x="2263320" y="4408200"/>
            <a:ext cx="741600" cy="368280"/>
          </a:xfrm>
          <a:custGeom>
            <a:avLst/>
            <a:gdLst>
              <a:gd name="textAreaLeft" fmla="*/ 0 w 741600"/>
              <a:gd name="textAreaRight" fmla="*/ 741960 w 7416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34" h="232">
                <a:moveTo>
                  <a:pt x="0" y="231"/>
                </a:moveTo>
                <a:lnTo>
                  <a:pt x="402" y="202"/>
                </a:lnTo>
                <a:lnTo>
                  <a:pt x="633" y="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8"/>
          <p:cNvSpPr/>
          <p:nvPr/>
        </p:nvSpPr>
        <p:spPr>
          <a:xfrm rot="603600">
            <a:off x="4844520" y="5975280"/>
            <a:ext cx="1238400" cy="2509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9"/>
          <p:cNvSpPr/>
          <p:nvPr/>
        </p:nvSpPr>
        <p:spPr>
          <a:xfrm rot="20484600">
            <a:off x="2957040" y="5862600"/>
            <a:ext cx="838440" cy="217440"/>
          </a:xfrm>
          <a:custGeom>
            <a:avLst/>
            <a:gdLst>
              <a:gd name="textAreaLeft" fmla="*/ 0 w 838440"/>
              <a:gd name="textAreaRight" fmla="*/ 838800 w 838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572" h="137">
                <a:moveTo>
                  <a:pt x="571" y="0"/>
                </a:moveTo>
                <a:lnTo>
                  <a:pt x="274" y="136"/>
                </a:lnTo>
                <a:lnTo>
                  <a:pt x="0" y="10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284120"/>
            <a:ext cx="3959280" cy="53848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које се користе за стабилизацију супоз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зерванси и антиоксидан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конзерванса може бити неопходан због постизања одговарајућег микробиолошког квалитета и због тога што састојци препарата могу условити раст микроорганиза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је могућа оксидација подлоге или неке од супстанци, понекад је потребно додати и антиоксид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716000" y="1268280"/>
            <a:ext cx="4103640" cy="54007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е материј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из више разло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могуће боље квашење диспергованих чест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могуће емулговање течних компоне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бољшају процес ослоб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ња (боље квашење и растварање у ректалној течно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овећа капацитет распростирања по аплика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је број површин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х материја које се мог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, али се препоручу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ба увек проверити да ли подлога већ садржи површински активну материју</a:t>
            </a:r>
            <a:r>
              <a:rPr b="0" lang="sl-SI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726A-BED2-488A-B898-08ACADCCD8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0102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А ИЗРАДЕ СУПОЗИТОРИЈ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АГИТОРИЈ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3964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а израде без загревањ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ладно компримовање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 из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рада истискивањем из кал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) Поступак компримо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изливања у 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ступак ручног изл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луаутоматска из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) Аутоматска из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5065-65B4-4A37-B99A-5878C91A4D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137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ИЗЛИВАЊА У КАЛУ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5280" y="191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шире коришћ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е може извести коректно и без већих тешкоћа и у апотеци и у индустријским постројењ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вом поступку основна маса за израду супозиторија се топи и по додатку лековите супстанце и помоћних материја излива у одговарајуће калуп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 може бити растворена, суспендована или емулгована у подло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вом поступку могући су губици масе па се на рачун растура узима 10-20% више свих компоненти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18"/>
          <p:cNvSpPr/>
          <p:nvPr/>
        </p:nvSpPr>
        <p:spPr>
          <a:xfrm>
            <a:off x="6491160" y="710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208E-12AA-4CD4-A6A0-3330853DDE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6527880" y="6840360"/>
            <a:ext cx="2133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A0B6-46ED-41E3-88D2-A5281D977B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icture 2"/>
          <p:cNvSpPr/>
          <p:nvPr/>
        </p:nvSpPr>
        <p:spPr>
          <a:xfrm>
            <a:off x="1403280" y="3141720"/>
            <a:ext cx="597060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819000" y="2362320"/>
            <a:ext cx="2068560" cy="66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е из ка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4005360"/>
            <a:ext cx="2320920" cy="66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ањање виш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ене м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1422360" y="6019920"/>
            <a:ext cx="2068560" cy="66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6205680" y="2362320"/>
            <a:ext cx="2068200" cy="666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подл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697800" y="4003560"/>
            <a:ext cx="2068200" cy="66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 леков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 подл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5883120" y="6095880"/>
            <a:ext cx="2068560" cy="66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322800" y="3840120"/>
            <a:ext cx="2462040" cy="1266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>
            <a:off x="2084400" y="3144960"/>
            <a:ext cx="1758960" cy="56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2484360" y="4365720"/>
            <a:ext cx="70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2"/>
          <p:cNvSpPr/>
          <p:nvPr/>
        </p:nvSpPr>
        <p:spPr>
          <a:xfrm flipH="1">
            <a:off x="2647440" y="5087880"/>
            <a:ext cx="1195560" cy="760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 flipH="1">
            <a:off x="5508720" y="3213000"/>
            <a:ext cx="1758960" cy="69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>
            <a:off x="5813280" y="4324320"/>
            <a:ext cx="843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5460840" y="5038560"/>
            <a:ext cx="1336680" cy="88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1042920" y="1027080"/>
            <a:ext cx="741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-технолошки аспекти израде супозит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9"/>
          <p:cNvSpPr/>
          <p:nvPr/>
        </p:nvSpPr>
        <p:spPr>
          <a:xfrm flipV="1">
            <a:off x="3455640" y="2362680"/>
            <a:ext cx="310320" cy="2448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851280" y="1844640"/>
            <a:ext cx="2068560" cy="666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ИЗЛИВАЊА У 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79520" y="1569960"/>
            <a:ext cx="82692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ањ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љена маса се сипа у такозвану хранилицу где се континуирано меша и држи на константној температури. Калупи су постављени радијално на расхладном окретном столу. Сваки калуп се пуни мало више него што је потребно, због контракције волумена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 се подешава зависно од масе за супозиторије, подешавањем брзине ротирања расхладног стола. Очврсле супозиторије се преносе до делова уређаја који врши даљу обрад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гање вишка очврсл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једном делу се налази нож који скида вишак масе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6"/>
          <p:cNvSpPr/>
          <p:nvPr/>
        </p:nvSpPr>
        <p:spPr>
          <a:xfrm>
            <a:off x="6564240" y="64119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172B-49EF-40F8-90DC-DBC5851F6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125000"/>
            <a:ext cx="8075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аковање супоз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алупи стигну до дела уређаја за вађење супозиторија, калупи се отварају а супозиторије истискују челичним штапићем. Извађене супозиторије се накнадно морају паковати. До процеса паковања морају се чувати на температури 4-10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о би се олакшао пренос супозиторија на машине за пакова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 добијене на овај начин морају се чувати до паковања у посебним спремиштима како би се садржај заштитио од контаминације и влаге. Због проблема који се могу јавити од момента вађења супозиторија па до нове фазе производње-паковања, погоднија је аутоматска производња, где ове фазе теку континуирано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ањ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ање и подмазивање калу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ршеном процесу вађења супозиторија калуп се затвара и преноси на станицу (део машине) за прање. четкање и подмазивање калупа. Ваздушни млаз одувава комадиће отпале са супозиторија и тако се скраћује време потребно за чишћ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5C3A-0F6B-47DF-BF7C-A7B930609A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за пак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920" y="1915920"/>
            <a:ext cx="3440160" cy="45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ар материјал за паковање мора задовољити следеће услов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инер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штитити од утицаја светл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пропуштати кисеоник, влагу, испарљиве компоненте, микрооргани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постојаног об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лепог изгл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0" y="1915920"/>
            <a:ext cx="4392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материјали за паковање могу се користити целофан, акрилонитни бутадиен стирен (АБС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ропилен високе густине ( ХДПЕ ), полипропилен ниске густине (ЛДПЕ ), полипропилен (ПП), полистирен (ПС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инилхлорид (ПВЦ), алуминијум и комбинације ових материја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се на тржишту могу наћи пластични калупи, такозване “супо-форме”, за магистралну и индустријску производњу, који су изр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 од различитих типова пласти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 се излива маса за супозиторије и потом се могу херметички затворити тако да уједно представљају и амбалаж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491160" y="667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171-ABF9-4EB5-B069-2675A33251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87440" y="1023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упи за изливање</a:t>
            </a:r>
            <a:br>
              <a:rPr sz="36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23640" y="1988640"/>
            <a:ext cx="489564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агистралну израду употребљавају се калупи од различитих материјала. Метални калупи могу бити од месинга, нерђајућег челика, калаја и др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калупи се састоје из два или више уздужно израђених делова који су један у односу на други као лик и слика у огледалу. Делови калупа су повезани вијцима или другим подесним механизмом који омогућава затварање и отварање калупа. Шупљине калупа могу бити различитог обли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дустрији и у галенским лабораторијама у већој мери се користе готове фолије (калупи) од различитих материјала (углавном пластични материјали) које након пуњења остају као примарна амбалажа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6583320" y="69897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A2B-79F7-4689-865F-4102E8A2D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Резултат слика за metal suppositorium"/>
          <p:cNvPicPr/>
          <p:nvPr/>
        </p:nvPicPr>
        <p:blipFill>
          <a:blip r:embed="rId1"/>
          <a:stretch/>
        </p:blipFill>
        <p:spPr>
          <a:xfrm>
            <a:off x="5148360" y="3429000"/>
            <a:ext cx="3995640" cy="3995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C:\Users\Ana Radovanovic\Downloads\kalup za supp.jpg"/>
          <p:cNvPicPr/>
          <p:nvPr/>
        </p:nvPicPr>
        <p:blipFill>
          <a:blip r:embed="rId2"/>
          <a:stretch/>
        </p:blipFill>
        <p:spPr>
          <a:xfrm>
            <a:off x="5796000" y="2060640"/>
            <a:ext cx="29527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70102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4000" y="177300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гнатури треба да буде наведе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репарата, јачина, начин чувања, рок употребе, серијски број и начин употр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епарат садржи конзерванс, на сигнатури мора бити наведено име и концентрац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захтева посебна припрема пре употребе препарата она мора бити назнач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 паковање мора да има и упутство, које даје детаљније информације о препарату од оних означених на паковању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112680" y="6985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4768-7AD0-43E7-8987-3CDC22CA1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6208560" y="6988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AB0E-8AF6-4BCC-9801-32C63AE085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24000" y="806400"/>
          <a:ext cx="8820000" cy="6051600"/>
        </p:xfrm>
        <a:graphic>
          <a:graphicData uri="http://schemas.openxmlformats.org/drawingml/2006/table">
            <a:tbl>
              <a:tblPr/>
              <a:tblGrid>
                <a:gridCol w="2939760"/>
                <a:gridCol w="2940120"/>
                <a:gridCol w="29401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Њ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ечишћење у супозиториј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љави калу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чисте сиров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трирати подл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ати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могена отопљена м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мент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ара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есити мешање и температу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тнити лековиту супстан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ушњавање отопљене ма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 проценат чврсте супстанц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иска температура топљ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говати температуру топљ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стити супстанце без кристалне в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и П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пање вазд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брзо меш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а меша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ише П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есити брзину меш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ити мешали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и формул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љење супозиторија за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е хла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дмазан кал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а подл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ећен кал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говати начин хлађ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азати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и подл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рати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арање пукотина и ле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а подл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исока температура изл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јако хла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и подл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исати температуру изл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егавати хла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мљене супозитор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мент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опљен вазд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ако лепљење за кал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рола мешања и температуре изл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а калу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Rectangle 218"/>
          <p:cNvSpPr/>
          <p:nvPr/>
        </p:nvSpPr>
        <p:spPr>
          <a:xfrm>
            <a:off x="65642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6178-B6BC-483E-BF5C-5A601F0DD2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50920" y="907920"/>
            <a:ext cx="87138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достаци ректалне апликације лековите супстанце у односу на орални начин при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val 3" descr="Parchment"/>
          <p:cNvPicPr/>
          <p:nvPr/>
        </p:nvPicPr>
        <p:blipFill>
          <a:blip r:embed="rId1"/>
          <a:stretch/>
        </p:blipFill>
        <p:spPr>
          <a:xfrm>
            <a:off x="2998800" y="2852640"/>
            <a:ext cx="3073320" cy="33228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4"/>
          <p:cNvSpPr/>
          <p:nvPr/>
        </p:nvSpPr>
        <p:spPr>
          <a:xfrm>
            <a:off x="4251240" y="2870280"/>
            <a:ext cx="420840" cy="33120"/>
          </a:xfrm>
          <a:custGeom>
            <a:avLst/>
            <a:gdLst>
              <a:gd name="textAreaLeft" fmla="*/ 0 w 420840"/>
              <a:gd name="textAreaRight" fmla="*/ 421200 w 420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"/>
          <p:cNvSpPr/>
          <p:nvPr/>
        </p:nvSpPr>
        <p:spPr>
          <a:xfrm>
            <a:off x="5224320" y="3051000"/>
            <a:ext cx="243000" cy="1684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"/>
          <p:cNvSpPr/>
          <p:nvPr/>
        </p:nvSpPr>
        <p:spPr>
          <a:xfrm>
            <a:off x="5824440" y="3641760"/>
            <a:ext cx="106560" cy="228600"/>
          </a:xfrm>
          <a:custGeom>
            <a:avLst/>
            <a:gdLst>
              <a:gd name="textAreaLeft" fmla="*/ 0 w 106560"/>
              <a:gd name="textAreaRight" fmla="*/ 106920 w 106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6031080" y="4533840"/>
            <a:ext cx="20520" cy="238320"/>
          </a:xfrm>
          <a:custGeom>
            <a:avLst/>
            <a:gdLst>
              <a:gd name="textAreaLeft" fmla="*/ 0 w 20520"/>
              <a:gd name="textAreaRight" fmla="*/ 20880 w 205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>
            <a:off x="5740560" y="5349960"/>
            <a:ext cx="102960" cy="174600"/>
          </a:xfrm>
          <a:custGeom>
            <a:avLst/>
            <a:gdLst>
              <a:gd name="textAreaLeft" fmla="*/ 0 w 102960"/>
              <a:gd name="textAreaRight" fmla="*/ 103320 w 102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"/>
          <p:cNvSpPr/>
          <p:nvPr/>
        </p:nvSpPr>
        <p:spPr>
          <a:xfrm>
            <a:off x="5070600" y="5919840"/>
            <a:ext cx="268200" cy="144360"/>
          </a:xfrm>
          <a:custGeom>
            <a:avLst/>
            <a:gdLst>
              <a:gd name="textAreaLeft" fmla="*/ 0 w 268200"/>
              <a:gd name="textAreaRight" fmla="*/ 268200 w 2682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4095720" y="609120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1"/>
          <p:cNvSpPr/>
          <p:nvPr/>
        </p:nvSpPr>
        <p:spPr>
          <a:xfrm>
            <a:off x="3332160" y="5524560"/>
            <a:ext cx="219240" cy="245880"/>
          </a:xfrm>
          <a:custGeom>
            <a:avLst/>
            <a:gdLst>
              <a:gd name="textAreaLeft" fmla="*/ 0 w 219240"/>
              <a:gd name="textAreaRight" fmla="*/ 219600 w 2192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2"/>
          <p:cNvSpPr/>
          <p:nvPr/>
        </p:nvSpPr>
        <p:spPr>
          <a:xfrm>
            <a:off x="3033720" y="4707000"/>
            <a:ext cx="55440" cy="290520"/>
          </a:xfrm>
          <a:custGeom>
            <a:avLst/>
            <a:gdLst/>
            <a:ahLst/>
            <a:rect l="l" t="t" r="r" b="b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3"/>
          <p:cNvSpPr/>
          <p:nvPr/>
        </p:nvSpPr>
        <p:spPr>
          <a:xfrm>
            <a:off x="3565440" y="3103560"/>
            <a:ext cx="198360" cy="155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"/>
          <p:cNvSpPr/>
          <p:nvPr/>
        </p:nvSpPr>
        <p:spPr>
          <a:xfrm>
            <a:off x="3081240" y="378288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508040" y="281160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5867280" y="2276640"/>
            <a:ext cx="29624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варијације у биорасположивости лековите супстаце, а самим тим и слабији ефекти у терап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611280" y="2708280"/>
            <a:ext cx="2967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агодност коју изазива овај начин апл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 flipV="1">
            <a:off x="453960" y="2979720"/>
            <a:ext cx="2436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-14400" y="2992320"/>
            <a:ext cx="2700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4"/>
          <p:cNvSpPr/>
          <p:nvPr/>
        </p:nvSpPr>
        <p:spPr>
          <a:xfrm flipH="1">
            <a:off x="8518680" y="5008680"/>
            <a:ext cx="149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5"/>
          <p:cNvSpPr/>
          <p:nvPr/>
        </p:nvSpPr>
        <p:spPr>
          <a:xfrm>
            <a:off x="179280" y="5229360"/>
            <a:ext cx="2301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изводњи већих количина могу се јавити технолошки пробле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6156360" y="5877000"/>
            <a:ext cx="2414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и услови чу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2916360" y="3357720"/>
            <a:ext cx="306360" cy="27288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5580000" y="2997000"/>
            <a:ext cx="270000" cy="322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2"/>
          <p:cNvSpPr/>
          <p:nvPr/>
        </p:nvSpPr>
        <p:spPr>
          <a:xfrm flipH="1">
            <a:off x="2418840" y="5289480"/>
            <a:ext cx="739800" cy="33804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5"/>
          <p:cNvSpPr/>
          <p:nvPr/>
        </p:nvSpPr>
        <p:spPr>
          <a:xfrm rot="603600">
            <a:off x="4816080" y="6140520"/>
            <a:ext cx="1238400" cy="2509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9653-BBC8-4EEC-9F6A-72750099EC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ТАЧНОСТ ДОЗИРАЊА ЛЕКОВИТИХ СУПСТАНЦА У СУПОЗИТОР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8360" y="23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БАЖДАРНЕ ВРЕДНОСТИ (запремине) КАЛ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ЕДИМЕНТАЦИЈЕ НА ТАЧНОСТ ДОЗИР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29D5-A912-4A71-BD57-B9BCF85834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БАЖДАРНЕ ВРЕДНОСТИ КАЛУПА НА ТАЧНОСТ ДОЗИРАЊА СУПОЗ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5280" y="1988640"/>
            <a:ext cx="8748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дарна вредност калупа треба да се одре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формулације супозитор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еђену врсту ка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мења врста ка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аку врсту подлог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еђен број супозиториј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-20) - измери се маса укупног броја супозиториј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израчуна баждарна вредност калуп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m/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аждарна вредност ка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са укупног броја супозиторија од чисте подл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рој израђених супозитор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5347-D11A-4286-BF0F-770E4B1753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Oval 5"/>
          <p:cNvSpPr/>
          <p:nvPr/>
        </p:nvSpPr>
        <p:spPr>
          <a:xfrm>
            <a:off x="2771640" y="4365720"/>
            <a:ext cx="1584360" cy="50328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701028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ТИСК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23640" y="184464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тискивања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же се дефинисати на два начина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подлоге коју истисне један грам лековите 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лековите супстанце који замењује један грам подлог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њиховој дефиницији јасно је да се може израчунати један из другог, односно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p  =  1/f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бројчане вредности фактора истискивања могу наћи као литературни подаци, значајно је установити на коју дефиницију (односно фактор истискивања) се односе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184320" y="6840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985A-70F3-4018-A376-C6D11E27B1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6280200" y="6843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9938-4E9A-4AFD-A5EB-44A437D538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од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у фактора истискивања могу се јавити пробле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2088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евима када се лековита супстанца раствара у подлоз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2088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у току израде дође до промене кристалног облика или величине честиц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2088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у току израде дође до делимичног растварања лековите супстанце (због повишене температуре) и поновног кристалисања у току хлађењ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ије познат фактор истискивања, често се у пракси користе приближне вредности. Тако се за већину органских супстанца узима да је фактор истискивања приближн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- fp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 - 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фактор истискивања обавезно узима у обзир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израђуј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упозитор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количина ЛС (прашкасте)  ≥ 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F2A6-720B-471C-9E7B-0AC49BB80A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УПОЗИТОРУЈА И ВАГИТОРИЈА</a:t>
            </a:r>
            <a:br>
              <a:rPr sz="2200"/>
            </a:br>
            <a:br>
              <a:rPr sz="1300"/>
            </a:b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Методе испитивања подлог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Методе испитивања готових производ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276640"/>
            <a:ext cx="79912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подлоге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чистоћ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хемијског саст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карактеристичних параметара (нпр. хидроксилни број, сапонификациони број ит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очвршћава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гус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ракција волу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бро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гелирања (за желатину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46"/>
          <p:cNvSpPr/>
          <p:nvPr/>
        </p:nvSpPr>
        <p:spPr>
          <a:xfrm>
            <a:off x="6564240" y="6450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4A2F-5E65-45CF-889C-68EC4FA7F1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684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супозиторија и вагиторија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љив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тврдо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ацитет распростир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ослобађања лековите супста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и за испитивање стабилно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6D94-79C0-4DFD-ADC5-0EA05A948C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СУПОЗИТОРИЈА И ВАГИТО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77360" y="1395360"/>
            <a:ext cx="8301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абилности супозиторија и вагиторија врши се у одређеним интервалима и обухвата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ате се промене у спољашњем изгледу готовог препара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физичке стабилно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те се механичке карактеристике (распадљивост, чврстина) и брзина ослобађања лековите супстанце како би се установило да ли у току времена долази до пром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хемијске стабилно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ти се садржај лековите супстанце, могућа појава деградационих производа како лековите супстанце тако и неке од помоћних материја, укључујући и подлог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контаминациј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 одређеним временским интервалима прати се ниво микробиолошке контаминације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6491160" y="66578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3EB0-D8AF-45E0-BF3A-2F76F1623D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2B-quas60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C54A-B3E0-40FC-B5AC-CFE0E8ACCC4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1961-73C6-42CA-9544-5D49657E20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и физиологија рект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24998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ормалним околностима, ректум је празан и његово пуњење представља надражај за рефлекс дефекације, што је вољно контролиса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ум садржи око 2 - 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зног садржаја, који им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и мали пуферски капаците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36B8-8F8F-461D-86FB-1A3890CED8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348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и физиологија рект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773360"/>
            <a:ext cx="84358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ектума крв одводе 3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роидалне вене: горња у хепатичну вена, а средња и доња директно у системски крв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е апсорбују у нижим партијама ректума, испоручују се директно у системску циркулацију, избегавајући метаболизам првог прола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ак, доказано је да се супозиторије могу пласирати довољно високо у ректуму, што омогућава да један део лека ипак дође до порталног крвотока, п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ује одржавање лека у нижим деловима рект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6"/>
          <p:cNvSpPr/>
          <p:nvPr/>
        </p:nvSpPr>
        <p:spPr>
          <a:xfrm>
            <a:off x="655956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4950-302D-4CFC-BD6C-C308AF1B36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и физиологија рект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76720" y="1971360"/>
            <a:ext cx="55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У зависности од особина подлоге, супозиторије се ил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раст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у ректалној течности или с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топ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у мукозном сло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Независно од типа подлоге, растворена лековита супстанца у супозиторији, дифундоваће према ректалној мембра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Процес апсорпције 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пасивна дифузиј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псорпција лека је олакшана услед добре прокрвљености ректума, али је површина апсорпције мала тако да се апсорпција одвија спо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ктална апсорпција је често некомпле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чење улцерозног колитиса, диазепам код деце 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tatus epilepti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6553080" y="65721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702B-5C55-48D7-9842-6A0AFEDC68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Резултат слика за anatomija rektuma"/>
          <p:cNvPicPr/>
          <p:nvPr/>
        </p:nvPicPr>
        <p:blipFill>
          <a:blip r:embed="rId1"/>
          <a:stretch/>
        </p:blipFill>
        <p:spPr>
          <a:xfrm>
            <a:off x="468360" y="2133720"/>
            <a:ext cx="25477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апсорпцију лека из супозитор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9280" y="2420640"/>
            <a:ext cx="3889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фак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дебелог цр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сре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4284720" y="2421000"/>
            <a:ext cx="4680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-хемијск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циони коефицијент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под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3C5F-00D0-455F-91E3-519F27E2EB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2-12T11:00:52Z</dcterms:modified>
  <cp:revision>233</cp:revision>
  <dc:subject/>
  <dc:title>Slide 1</dc:title>
</cp:coreProperties>
</file>